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DA23-5E5C-4D18-905E-4CB40D159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26FD-A77F-4032-B22B-0C8DE1AB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3841-BB88-4941-B1A2-1DB3850A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821F-2EDC-4D3E-BCA3-788C3CAC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39BB-4150-4D7B-BCC1-BB318630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45ED-8832-4D9C-885E-DB31BCA6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9BDC-6A0F-4FC7-8A50-DFEA129A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50BC-7778-4A33-858E-19E0A3FC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FBC1-5329-4D3D-96F6-B4887D5C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F567-B8F9-412E-BA54-81ED0FBA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CEB2-149C-4BA4-BD0C-13C2DC02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C568-7850-4B2F-BF2E-DD158746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3FFE-F951-4B94-9488-9B09815F3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hyperlink" Target="http://www.freeplaymusic.com/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75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34320" y="48006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a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11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62120" y="152280"/>
            <a:ext cx="72388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rbie Doll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1371600" cy="2209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520" y="518148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410080" y="5022720"/>
            <a:ext cx="1362240" cy="1835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505320" y="4495680"/>
            <a:ext cx="1039680" cy="1833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8077320" y="1066680"/>
            <a:ext cx="1066680" cy="1828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H="1">
            <a:off x="2242440" y="4008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3657600"/>
            <a:ext cx="5181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, Free Play Music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Jaz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6/1/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95480" y="29718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: Ruth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AC"/>
          <p:cNvPicPr/>
          <p:nvPr/>
        </p:nvPicPr>
        <p:blipFill>
          <a:blip r:embed="rId1"/>
          <a:stretch/>
        </p:blipFill>
        <p:spPr>
          <a:xfrm>
            <a:off x="6934320" y="3581280"/>
            <a:ext cx="2209680" cy="3276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5410080"/>
            <a:ext cx="426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uth Handl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/16/11, http://web.mit.edu/invent/iow/handle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Handler"/>
          <p:cNvPicPr/>
          <p:nvPr/>
        </p:nvPicPr>
        <p:blipFill>
          <a:blip r:embed="rId2"/>
          <a:stretch/>
        </p:blipFill>
        <p:spPr>
          <a:xfrm>
            <a:off x="0" y="0"/>
            <a:ext cx="6781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bie Do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of paper or car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te 60s even saw the certain of the “Barbie Libration Organize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ie’s appeared as a doctor, astronaunt, businesswomen, police officer, UNAICEF volunteer, and athle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ie product line is the most successful in the history of the indrus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ie doll (named in the honor of the Handler’s daughter, a pint-sized modle of the girl next do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Ruth Hand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th Handler undeniably invented and American icon that function as both a steady cyosure for girl’s dreams and an ever changing reflection of American soci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r spent some time designing a doll similar too Li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r created a three-dimensional adult female do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r sensed that it was just important for girls to im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r returned form a trip to Europe with a “Lilli” doll, modeled after a character in a German comic str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7:58:47Z</dcterms:created>
  <dc:creator>install</dc:creator>
  <dc:description/>
  <dc:language>en-US</dc:language>
  <cp:lastModifiedBy>install</cp:lastModifiedBy>
  <dcterms:modified xsi:type="dcterms:W3CDTF">2011-06-01T17:36:01Z</dcterms:modified>
  <cp:revision>8</cp:revision>
  <dc:subject/>
  <dc:title>Slide 1</dc:title>
</cp:coreProperties>
</file>